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905-745B-419C-A78E-CDD497F1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BA1-37DA-4918-85B5-4C30E0B0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E6A-971A-4D5C-9A14-C3D86F81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078-D9CE-465C-B110-4355FAE8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30B-4BAD-44BE-87FC-A0B9AB4F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C9D-53C7-4FE6-B0C3-3E43401D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7E5-43F3-4BEA-8382-B3895A0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9EB-4F30-4094-8CA4-BB8E1ED4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56C-1072-4EE0-A85E-120428C2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CF8-083E-4549-BD85-8522CF5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F2E-88F5-4D98-986F-498F2B2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82F-C6EB-464D-AD06-FF4E69E8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CB33-22BD-47BE-B47D-E786ABD32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98560" y="476280"/>
            <a:ext cx="777708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33130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2:19:52Z</dcterms:created>
  <dc:creator>anne kenneally</dc:creator>
  <dc:description/>
  <dc:language>en-US</dc:language>
  <cp:lastModifiedBy>anne kenneally</cp:lastModifiedBy>
  <dcterms:modified xsi:type="dcterms:W3CDTF">2010-03-08T02:20:34Z</dcterms:modified>
  <cp:revision>1</cp:revision>
  <dc:subject/>
  <dc:title>Slide 1</dc:title>
</cp:coreProperties>
</file>